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C2A1-6DCC-45CF-89DF-66AA425D2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6DCF-B307-4954-A8F7-5CD6CC19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3AF8-AB0A-4AA5-A3F1-700B28DDE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DB06-147C-46E5-8C3B-5F39BF1CB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F79E-D5B8-4061-805B-35F3A34A7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5D0E-7662-4D59-9DEC-355B5EE3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C9C5-0E69-4213-9896-29AC9A01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EB95-6EA0-46FF-A5F4-E2DC91B5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2A99-484E-44CF-82C4-2AB73F66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FDD6-63EC-4A9B-829A-F3FC0B94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14CD-8717-4290-A99F-46E751C1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C83D-2693-4F21-826C-14258313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25A9-B0C8-4EC2-A796-AC916E4B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4A4D-EEE1-4628-9BD8-AF09131D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097C-D666-436E-AC84-67594F52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2BB6-9B1F-4960-A388-6053A1504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B705-BE93-4097-B9D2-B324C4C94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0FF348-3CB0-4C81-9DA6-383AA917E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A55F93-C1D3-4C64-80A4-35E873BB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FC2B3F-3C52-4508-9AFB-E7B4C24D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A0BB35-8EB7-4D5D-A7FA-1EE49953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DAA184-1E63-400B-8209-403893B6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CC0A-570E-46F1-90A7-6D13C472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AA2671-E886-42A6-BF5C-7C0FB67E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4B9368-9477-47AA-9512-BCA4487A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81C379-0410-4B98-A807-AABBF956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21E476-174F-491D-B412-9A417FEE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00CBB0-D888-46AE-BE29-F0E583A4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F5E2B4-DB13-48FA-9E9B-B20C3DD3E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737423-949C-45CF-A0F3-6E2B5463F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0364D-62FD-4655-82DF-19EE91C4A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AC47A-9A7B-4D71-AC3C-54CF90B6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77F28-1F30-493E-9304-4380F27E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8A42-83FA-4F27-AEF4-0F4A4FAE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5FE74-FDB7-41F4-B238-353163CC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71380-BB44-481A-826B-7ADDFA9D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4365C-FC67-4E92-9758-21049789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5F6AE-4294-4AB2-BCAB-91C8D1B9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305B9-BAAA-45DF-8CD5-E084F511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277B1-4745-4380-9FE1-2A58E581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696C9-9C71-4E61-AB7E-97368E09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2958E-4380-4078-8C27-E2D5FE7D3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ED6E0-C7DF-4BD2-89E1-536D4043E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FEE3BC-511B-4676-9A81-6C6BA0C7C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21A8-E5C0-4768-ACB7-B32820A5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531F08-D2EF-40F2-876B-71390B2F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C233ED-B9BE-4EDC-B191-5699488C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659162-4EC4-468A-A8C3-06B26144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212EF1-A895-4240-B53B-787E4183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CEFF5B-4681-40A6-B84C-D2D00EF8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CBB5AD-9048-4284-B914-0C9A04BF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BF7BF8-50E5-4C5F-A21C-2C38486A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345087-F578-4E42-BB0C-52B00F1E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C636E9-D90F-4208-847A-80B4060F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9807C5-BAB1-45D4-98EE-05990B81C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F273-D230-43B5-8357-01CA2770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999AFA-B76C-4AA7-93BE-9B56CD12C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598970-4B27-4FCF-8EE4-B0E46519C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2B3558-7197-4913-9757-7F51D1E1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4D01B4-1B95-4992-B98B-C6A28E7C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04405A-FBE8-452F-B411-869777D8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025C1A-2267-4561-AE10-C1A306CC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D45850-938A-493D-B37E-54A845BF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EC802C-5C9A-4173-8BAA-FAB934B7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6C122B-6D6A-47D4-BC49-9DB358F7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75D34B-5AD8-4F93-80F7-7D82396B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8C0F-966B-4E63-B08A-921F8DA9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F0C872-0580-436B-9463-075529C7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6D4835-F5B0-4991-9010-ADD70E928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5A071F-599B-486C-9C46-27476363B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F35976-F5FE-4D4E-A7F0-0F4DD53F8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301394-18CE-4AC7-81B8-5D7E9C66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7060E6-165F-475D-B3F0-D8E3428F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C18A03-E33B-41D7-947D-E2547046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6BA2E6-1083-4BFA-9D27-DFD93315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38C10A-6DC5-450E-80B5-FF3EF688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818752-F0CF-42C1-A779-A5521956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ACF7-4540-446E-9616-DB781748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DFA6AB-6277-469C-9C0A-0D6D920B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E614F7-C681-4E2C-9181-1A8DF0D9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89E73C-E761-494A-84C9-19C0F038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3CA0A6-C44C-4D87-B28E-64E0F1574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9A6162-204D-4251-A0DC-54A37C7C6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F931-FD67-474C-BCDF-7D786CB3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D9F6-875A-4ADB-8BBA-F8F25237D89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3E21-AA86-442F-9FD8-97E642D99E2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9081-BBFD-44E9-9145-2B5D9D22015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99A1-74CA-46C0-97F5-E9204F15AD4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9B54-8D8A-48DA-AF3D-5B8F8DB7561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281F-718B-45A5-868C-1B9F8052D4D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E3ED-EB8A-42DC-A3CB-6EC54E26223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000" spc="-1" strike="noStrike">
                <a:solidFill>
                  <a:srgbClr val="575f6d"/>
                </a:solidFill>
                <a:latin typeface="Times New Roman"/>
              </a:rPr>
              <a:t>PROGRAMARE ORIENTATĂ PE OBIECT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Constructori </a:t>
            </a:r>
            <a:r>
              <a:rPr b="1" lang="ro-RO" sz="1800" spc="-1" strike="noStrike">
                <a:solidFill>
                  <a:srgbClr val="575f6d"/>
                </a:solidFill>
                <a:latin typeface="Century Schoolbook"/>
              </a:rPr>
              <a:t>şi destructor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"/>
          <p:cNvPicPr/>
          <p:nvPr/>
        </p:nvPicPr>
        <p:blipFill>
          <a:blip r:embed="rId1"/>
          <a:srcRect l="13358" t="22441" r="6494" b="27402"/>
          <a:stretch/>
        </p:blipFill>
        <p:spPr>
          <a:xfrm>
            <a:off x="457200" y="304920"/>
            <a:ext cx="8229600" cy="28954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"/>
          <p:cNvPicPr/>
          <p:nvPr/>
        </p:nvPicPr>
        <p:blipFill>
          <a:blip r:embed="rId2"/>
          <a:srcRect l="9590" t="36462" r="12517" b="10418"/>
          <a:stretch/>
        </p:blipFill>
        <p:spPr>
          <a:xfrm>
            <a:off x="304920" y="3124080"/>
            <a:ext cx="7750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575f6d"/>
                </a:solidFill>
                <a:latin typeface="Century Schoolbook"/>
              </a:rPr>
              <a:t>CE SUNT CONSTRUCTORII ŞI DESTRUCTORII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Pentru crearea, inițializarea, copierea și distrugerea obiectelor, în C++ se folosesc funcții membre speciale, numite </a:t>
            </a:r>
            <a:r>
              <a:rPr b="1" lang="vi-VN" sz="2400" spc="-1" strike="noStrike">
                <a:solidFill>
                  <a:srgbClr val="000000"/>
                </a:solidFill>
                <a:latin typeface="Times New Roman"/>
              </a:rPr>
              <a:t>constructori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 și </a:t>
            </a:r>
            <a:r>
              <a:rPr b="1" lang="vi-VN" sz="2400" spc="-1" strike="noStrike">
                <a:solidFill>
                  <a:srgbClr val="000000"/>
                </a:solidFill>
                <a:latin typeface="Times New Roman"/>
              </a:rPr>
              <a:t>destructori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Funcția de tip </a:t>
            </a:r>
            <a:r>
              <a:rPr b="1" lang="vi-VN" sz="2400" spc="-1" strike="noStrike">
                <a:solidFill>
                  <a:srgbClr val="e75c01"/>
                </a:solidFill>
                <a:latin typeface="Times New Roman"/>
              </a:rPr>
              <a:t>constructor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 se apelează automat la crearea fiecărui obiect al clasei, creare care poate fi statică sau dinamică (folosind operatorul </a:t>
            </a:r>
            <a:r>
              <a:rPr b="1" lang="vi-VN" sz="2400" spc="-1" strike="noStrike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Funcția de tip</a:t>
            </a:r>
            <a:r>
              <a:rPr b="1" lang="vi-VN" sz="2400" spc="-1" strike="noStrike">
                <a:solidFill>
                  <a:srgbClr val="e75c01"/>
                </a:solidFill>
                <a:latin typeface="Times New Roman"/>
              </a:rPr>
              <a:t> destructor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 se apelează automat la eliminarea unui obiect al clasei, la încheierea timpului de viață sau, în cazul variabilelor dinamice, este solicitat prin program (cu operatorul </a:t>
            </a:r>
            <a:r>
              <a:rPr b="1" lang="vi-VN" sz="24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575f6d"/>
                </a:solidFill>
                <a:latin typeface="Century Schoolbook"/>
              </a:rPr>
              <a:t>PROPRIETĂŢI ALE CONSTRUCTORILOR SI DESTRUCTORILO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ceste tipuri de functii se declara si se definesc asemanator cu celelalte functii membre, dar au cateva particularitati care le diferentiaza de acestea pri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. Numele functiilor constructor sau destructor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oincide cu numele clasei careia îi apartin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; în plus destructorii se diferentiaza prin faptul ca numele lor este precedat de caracterul “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”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. În declaratiile si definitiile constructorilor si destructorilor nu se specifica nici un tip de rezultat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nici macar tipul voi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575f6d"/>
                </a:solidFill>
                <a:latin typeface="Century Schoolbook"/>
              </a:rPr>
              <a:t>PROPRIETĂŢI ALE CONSTRUCTORILOR SI DESTRUCTORILO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600200"/>
            <a:ext cx="76960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structorii si destructorii nu pot fi mosteniti, dar pot fi apelati de clasa derivata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. Nu se pot utiliza pointeri catre constructori sau destructori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 Constructorii pot avea parametri, inclusiv parametri impliciti, si pot fi supradefiniti. Destructorii nu au aceste proprietati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. Un constructor fara parametri se numeste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onstructor implici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575f6d"/>
                </a:solidFill>
                <a:latin typeface="Century Schoolbook"/>
              </a:rPr>
              <a:t>PROPRIETĂŢI ALE CONSTRUCTORILOR SI DESTRUCTORILO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7. Daca o clasa nu dispune de constructori si destructori definiti, </a:t>
            </a:r>
            <a:r>
              <a:rPr b="1" lang="en-US" sz="2400" spc="-1" strike="noStrike">
                <a:solidFill>
                  <a:srgbClr val="e75c01"/>
                </a:solidFill>
                <a:latin typeface="Century Schoolbook"/>
              </a:rPr>
              <a:t>compilatorul va genera automat un constructor implicit, respectiv un destructor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care sunt si functii publice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8. De obicei, constructorii si destructorii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se declara publici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deoarece, daca s-ar declara privati atunci nu s-ar mai putea declara obiecte de tipul respectiv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EMPLUL 1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Iată cum se poate defini si implementa </a:t>
            </a:r>
            <a:r>
              <a:rPr b="1" lang="ro-RO" sz="2400" spc="-1" strike="noStrike">
                <a:solidFill>
                  <a:srgbClr val="e75c01"/>
                </a:solidFill>
                <a:latin typeface="Century Schoolbook"/>
              </a:rPr>
              <a:t>clasa cerc</a:t>
            </a: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având ca dată membră</a:t>
            </a:r>
            <a:r>
              <a:rPr b="1" lang="vi-V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lang="vi-VN" sz="2400" spc="-1" strike="noStrike">
                <a:solidFill>
                  <a:srgbClr val="000000"/>
                </a:solidFill>
                <a:latin typeface="Times New Roman"/>
              </a:rPr>
              <a:t>aza 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şi ca funcţii membre , un </a:t>
            </a:r>
            <a:r>
              <a:rPr b="1" lang="vi-VN" sz="2400" spc="-1" strike="noStrike">
                <a:solidFill>
                  <a:srgbClr val="000000"/>
                </a:solidFill>
                <a:latin typeface="Times New Roman"/>
              </a:rPr>
              <a:t>constructor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, functia pentru calculul </a:t>
            </a:r>
            <a:r>
              <a:rPr b="1" lang="ro-RO" sz="24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1" lang="vi-VN" sz="24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1" lang="ro-RO" sz="2400" spc="-1" strike="noStrike">
                <a:solidFill>
                  <a:srgbClr val="000000"/>
                </a:solidFill>
                <a:latin typeface="Century Schoolbook"/>
              </a:rPr>
              <a:t>ei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 şi </a:t>
            </a: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functia pentru calculul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1" lang="vi-VN" sz="2400" spc="-1" strike="noStrike">
                <a:solidFill>
                  <a:srgbClr val="000000"/>
                </a:solidFill>
                <a:latin typeface="Times New Roman"/>
              </a:rPr>
              <a:t>ircumferint</a:t>
            </a:r>
            <a:r>
              <a:rPr b="1" lang="ro-RO" sz="2400" spc="-1" strike="noStrike">
                <a:solidFill>
                  <a:srgbClr val="000000"/>
                </a:solidFill>
                <a:latin typeface="Century Schoolbook"/>
              </a:rPr>
              <a:t>ei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ass cerc{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loat raza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ublic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erc()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loat aria(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loat circumferinta(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};</a:t>
            </a: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533160" y="304920"/>
            <a:ext cx="74674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erc::cerc(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{ cout&lt;&lt;"Raza cercului este = ";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in&gt;&gt;raza; }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loat cerc::aria(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{ return (</a:t>
            </a:r>
            <a:r>
              <a:rPr b="0" lang="ro-RO" sz="2000" spc="-1" strike="noStrike">
                <a:solidFill>
                  <a:srgbClr val="000000"/>
                </a:solidFill>
                <a:latin typeface="Century Schoolbook"/>
              </a:rPr>
              <a:t>3.14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*raza*raza); }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loat cerc::circumferinta(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{return (2*</a:t>
            </a:r>
            <a:r>
              <a:rPr b="0" lang="ro-RO" sz="2000" spc="-1" strike="noStrike">
                <a:solidFill>
                  <a:srgbClr val="000000"/>
                </a:solidFill>
                <a:latin typeface="Century Schoolbook"/>
              </a:rPr>
              <a:t>3.14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*raza); }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int main(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{ cerc c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out&lt;&lt;"Aria cercului este = "&lt;&lt; c.aria()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out &lt;&lt;"Circumferinta cercului este = "&lt;&lt; c.circumferinta();4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EMPLUL 2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5" name="Picture 3" descr=""/>
          <p:cNvPicPr/>
          <p:nvPr/>
        </p:nvPicPr>
        <p:blipFill>
          <a:blip r:embed="rId1"/>
          <a:srcRect l="15766" t="11270" r="13760" b="5527"/>
          <a:stretch/>
        </p:blipFill>
        <p:spPr>
          <a:xfrm>
            <a:off x="762120" y="1600200"/>
            <a:ext cx="7116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"/>
          <p:cNvPicPr/>
          <p:nvPr/>
        </p:nvPicPr>
        <p:blipFill>
          <a:blip r:embed="rId1"/>
          <a:srcRect l="16449" t="23937" r="11776" b="60108"/>
          <a:stretch/>
        </p:blipFill>
        <p:spPr>
          <a:xfrm>
            <a:off x="609480" y="380880"/>
            <a:ext cx="7315200" cy="9144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" descr=""/>
          <p:cNvPicPr/>
          <p:nvPr/>
        </p:nvPicPr>
        <p:blipFill>
          <a:blip r:embed="rId2"/>
          <a:srcRect l="10279" t="16668" r="39123" b="18337"/>
          <a:stretch/>
        </p:blipFill>
        <p:spPr>
          <a:xfrm>
            <a:off x="533520" y="1600200"/>
            <a:ext cx="48528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9:16:40Z</dcterms:created>
  <dc:creator>MONICA</dc:creator>
  <dc:description/>
  <dc:language>en-US</dc:language>
  <cp:lastModifiedBy>delpack</cp:lastModifiedBy>
  <dcterms:modified xsi:type="dcterms:W3CDTF">2015-04-26T16:33:53Z</dcterms:modified>
  <cp:revision>21</cp:revision>
  <dc:subject/>
  <dc:title>Programare orientată pe obiecte</dc:title>
</cp:coreProperties>
</file>